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scooby_doo_laugh.wav" ContentType="audio/x-wav"/>
  <Override PartName="/ppt/media/image20.jpeg" ContentType="image/jpeg"/>
  <Override PartName="/ppt/media/cow_2.wav" ContentType="audio/x-wav"/>
  <Override PartName="/ppt/media/image19.jpeg" ContentType="image/jpeg"/>
  <Override PartName="/ppt/media/cow.wav" ContentType="audio/x-wav"/>
  <Override PartName="/ppt/media/image18.jpeg" ContentType="image/jpeg"/>
  <Override PartName="/ppt/media/image15.png" ContentType="image/png"/>
  <Override PartName="/ppt/media/oh_no.wav" ContentType="audio/x-wav"/>
  <Override PartName="/ppt/media/image17.jpeg" ContentType="image/jpeg"/>
  <Override PartName="/ppt/media/image1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9.png" ContentType="image/png"/>
  <Override PartName="/ppt/media/image23.jpeg" ContentType="image/jpeg"/>
  <Override PartName="/ppt/media/image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6.jpeg" ContentType="image/jpeg"/>
  <Override PartName="/ppt/media/bunny_awful.wav" ContentType="audio/x-wav"/>
  <Override PartName="/ppt/media/image27.jpeg" ContentType="image/jpeg"/>
  <Override PartName="/ppt/media/image6.jpeg" ContentType="image/jpeg"/>
  <Override PartName="/ppt/media/applause.wav" ContentType="audio/x-wav"/>
  <Override PartName="/ppt/media/cow_3.wav" ContentType="audio/x-wav"/>
  <Override PartName="/ppt/media/image30.jpeg" ContentType="image/jpeg"/>
  <Override PartName="/ppt/media/image3.jpeg" ContentType="image/jpeg"/>
  <Override PartName="/ppt/media/image33.gif" ContentType="image/gif"/>
  <Override PartName="/ppt/media/image28.png" ContentType="image/png"/>
  <Override PartName="/ppt/media/image7.jpeg" ContentType="image/jpeg"/>
  <Override PartName="/ppt/media/image5.jpeg" ContentType="image/jpeg"/>
  <Override PartName="/ppt/media/awh_man.wav" ContentType="audio/x-wav"/>
  <Override PartName="/ppt/media/image13.jpeg" ContentType="image/jpeg"/>
  <Override PartName="/ppt/media/image11.jpeg" ContentType="image/jpeg"/>
  <Override PartName="/ppt/media/image34.png" ContentType="image/png"/>
  <Override PartName="/ppt/media/image1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D4C8-840B-4F16-92EF-B5141D87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C02-A973-40C6-B9A6-B609E268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A19C-F3AA-48B7-B45D-BB7BF958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EE2-D248-4C2E-9D11-6832FE43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DF6C-D485-4561-A78B-5A14C400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D789-6C0D-4A93-A372-F098B8EE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74EB-A69B-4F9B-BD33-76A4A3E2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29B9-4BD0-48F4-AA38-2C0DE96F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A676-EF76-4861-8630-A21E3D4D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2C1C-CAE9-49E3-8D47-7645D533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CA8D-5F69-4EC8-8784-63D4E23E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A07-3F99-49AD-8ADC-5903095F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6254-95D1-4D5E-99E8-271EBA8D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A684-ED5B-44ED-8CAD-5581FBD4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FA7C-4212-4319-BF1B-71180278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9856-4C83-44BF-9779-DBF7E601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6A4A-0F13-464B-B01D-22D5FD62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2A30-7FD3-4294-8702-3B4B65F5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7D8-09BE-4D86-B116-11B9FF1C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F39B-A298-4272-A385-AFC4E543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C80-AEE5-4095-B11E-6E898C73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B6A-22BB-427A-B29C-C717480C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FEA-5FC8-49D6-8FA8-C17EC89D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FAE5-A758-4B98-8427-96C2B1B4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5529-A6B5-4896-8E9C-015370222FE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F7B7-1DDE-4C3C-B755-65AA82E46A6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audio" Target="../media/awh_ma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audio" Target="../media/bunny_awfu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scooby_doo_laugh.wav"/><Relationship Id="rId3" Type="http://schemas.openxmlformats.org/officeDocument/2006/relationships/audio" Target="../media/scooby_doo_laug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scooby_doo_laugh.wav"/><Relationship Id="rId3" Type="http://schemas.openxmlformats.org/officeDocument/2006/relationships/audio" Target="../media/scooby_doo_laugh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file:///tmp/home/.config/libreoffice/4/user/gallery/bunny_awful.wav" TargetMode="External"/><Relationship Id="rId3" Type="http://schemas.microsoft.com/office/2007/relationships/media" Target="file:///tmp/home/.config/libreoffice/4/user/gallery/bunny_awful.wav" TargetMode="Externa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http://images.google.com/imgres?imgurl=http://www.dansmc.com/spnorm.jpg&amp;imgrefurl=http://www.dansmc.com/sparkplugs1.htm&amp;h=445&amp;w=578&amp;sz=58&amp;tbnid=jvhCGCbL8GoJ:&amp;tbnh=101&amp;tbnw=132&amp;hl=en&amp;start=2&amp;prev=/images%3Fq%3Dspark%2Bplugs%26svnum%3D10%26hl%3Den%26lr%3D%26rls%3DRNWE,RNWE:2004-52,RNWE:en%26sa%3DG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gif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w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ow_2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ow_3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ow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ow_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ow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cow_3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oh_no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oudy Stout"/>
              </a:rPr>
              <a:t>TYPES OF ENERGY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34" descr="Energy1"/>
          <p:cNvPicPr/>
          <p:nvPr/>
        </p:nvPicPr>
        <p:blipFill>
          <a:blip r:embed="rId1"/>
          <a:stretch/>
        </p:blipFill>
        <p:spPr>
          <a:xfrm>
            <a:off x="5281560" y="304920"/>
            <a:ext cx="3767040" cy="6248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5"/>
          <p:cNvSpPr/>
          <p:nvPr/>
        </p:nvSpPr>
        <p:spPr>
          <a:xfrm>
            <a:off x="152280" y="3084480"/>
            <a:ext cx="4803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Mechanical, Electromagnetic, Electric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Chemical and Th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lectrical energy is transported to your house through power lin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en you plug an electric fan to a power outlet, electrical energy is transform into what type of energ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228600" y="990720"/>
            <a:ext cx="2286000" cy="5638680"/>
            <a:chOff x="228600" y="990720"/>
            <a:chExt cx="2286000" cy="5638680"/>
          </a:xfrm>
        </p:grpSpPr>
        <p:pic>
          <p:nvPicPr>
            <p:cNvPr id="126" name="Picture 8" descr="Electric3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226368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9" descr="Electric4"/>
            <p:cNvPicPr/>
            <p:nvPr/>
          </p:nvPicPr>
          <p:blipFill>
            <a:blip r:embed="rId2"/>
            <a:stretch/>
          </p:blipFill>
          <p:spPr>
            <a:xfrm>
              <a:off x="228600" y="3809880"/>
              <a:ext cx="22860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Нижний колонтитул 8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wh_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energy transformation occurs when an electric lamp is turned 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LECTR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228600" y="990720"/>
            <a:ext cx="2276640" cy="5715000"/>
            <a:chOff x="228600" y="990720"/>
            <a:chExt cx="2276640" cy="5715000"/>
          </a:xfrm>
        </p:grpSpPr>
        <p:pic>
          <p:nvPicPr>
            <p:cNvPr id="132" name="Picture 4" descr="Electric3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226368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9" descr="Electric6"/>
            <p:cNvPicPr/>
            <p:nvPr/>
          </p:nvPicPr>
          <p:blipFill>
            <a:blip r:embed="rId2"/>
            <a:stretch/>
          </p:blipFill>
          <p:spPr>
            <a:xfrm>
              <a:off x="228600" y="3809880"/>
              <a:ext cx="2276640" cy="289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Нижний колонтитул 8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nny_awf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s of energy are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and Therm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(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Berlin Sans FB Demi"/>
              </a:rPr>
              <a:t>Don’t forget friction</a:t>
            </a: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thermal2"/>
          <p:cNvPicPr/>
          <p:nvPr/>
        </p:nvPicPr>
        <p:blipFill>
          <a:blip r:embed="rId1"/>
          <a:stretch/>
        </p:blipFill>
        <p:spPr>
          <a:xfrm>
            <a:off x="457200" y="1295280"/>
            <a:ext cx="7772400" cy="3990960"/>
          </a:xfrm>
          <a:prstGeom prst="rect">
            <a:avLst/>
          </a:prstGeom>
          <a:ln w="0">
            <a:noFill/>
          </a:ln>
        </p:spPr>
      </p:pic>
      <p:sp>
        <p:nvSpPr>
          <p:cNvPr id="138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Chemical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chemical5"/>
          <p:cNvPicPr/>
          <p:nvPr/>
        </p:nvPicPr>
        <p:blipFill>
          <a:blip r:embed="rId1"/>
          <a:stretch/>
        </p:blipFill>
        <p:spPr>
          <a:xfrm>
            <a:off x="1828800" y="1066680"/>
            <a:ext cx="5410080" cy="449604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s of energy are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Electrical, Mechanical 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remotecontrol"/>
          <p:cNvPicPr/>
          <p:nvPr/>
        </p:nvPicPr>
        <p:blipFill>
          <a:blip r:embed="rId1"/>
          <a:stretch/>
        </p:blipFill>
        <p:spPr>
          <a:xfrm>
            <a:off x="1752480" y="990720"/>
            <a:ext cx="5562720" cy="441936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Chemical Energy  (yummy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tomato"/>
          <p:cNvPicPr/>
          <p:nvPr/>
        </p:nvPicPr>
        <p:blipFill>
          <a:blip r:embed="rId1"/>
          <a:stretch/>
        </p:blipFill>
        <p:spPr>
          <a:xfrm>
            <a:off x="2057400" y="1173240"/>
            <a:ext cx="4952880" cy="426060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5638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Thermal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Electric5"/>
          <p:cNvPicPr/>
          <p:nvPr/>
        </p:nvPicPr>
        <p:blipFill>
          <a:blip r:embed="rId1"/>
          <a:stretch/>
        </p:blipFill>
        <p:spPr>
          <a:xfrm>
            <a:off x="2133720" y="1066680"/>
            <a:ext cx="48006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Pontiac-Solstice-013"/>
          <p:cNvPicPr/>
          <p:nvPr/>
        </p:nvPicPr>
        <p:blipFill>
          <a:blip r:embed="rId1"/>
          <a:stretch/>
        </p:blipFill>
        <p:spPr>
          <a:xfrm>
            <a:off x="-914400" y="-990720"/>
            <a:ext cx="10850400" cy="81392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aw a flow map showing the flow of energy transformations in a car from starting vehicle to driving.  You should have 5 different types of energy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52280" y="-304920"/>
            <a:ext cx="152280" cy="152640"/>
          </a:xfrm>
          <a:prstGeom prst="rect">
            <a:avLst/>
          </a:prstGeom>
          <a:ln w="0">
            <a:noFill/>
          </a:ln>
        </p:spPr>
      </p:pic>
      <p:sp>
        <p:nvSpPr>
          <p:cNvPr id="159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203904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8"/>
                </p:tgtEl>
              </p:cMediaNode>
            </p:audio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85R589"/>
          <p:cNvPicPr/>
          <p:nvPr/>
        </p:nvPicPr>
        <p:blipFill>
          <a:blip r:embed="rId1"/>
          <a:stretch/>
        </p:blipFill>
        <p:spPr>
          <a:xfrm>
            <a:off x="2514600" y="2286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Energy Transfer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62" name="Picture 4" descr="Car headlights BBC"/>
          <p:cNvPicPr/>
          <p:nvPr/>
        </p:nvPicPr>
        <p:blipFill>
          <a:blip r:embed="rId2"/>
          <a:stretch/>
        </p:blipFill>
        <p:spPr>
          <a:xfrm>
            <a:off x="3048120" y="5029200"/>
            <a:ext cx="2133360" cy="127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spno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048120"/>
            <a:ext cx="1257480" cy="961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ar-battery"/>
          <p:cNvPicPr/>
          <p:nvPr/>
        </p:nvPicPr>
        <p:blipFill>
          <a:blip r:embed="rId5"/>
          <a:stretch/>
        </p:blipFill>
        <p:spPr>
          <a:xfrm>
            <a:off x="228600" y="2666880"/>
            <a:ext cx="1724040" cy="162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Car%20animation"/>
          <p:cNvPicPr/>
          <p:nvPr/>
        </p:nvPicPr>
        <p:blipFill>
          <a:blip r:embed="rId6"/>
          <a:stretch/>
        </p:blipFill>
        <p:spPr>
          <a:xfrm>
            <a:off x="5524560" y="2666880"/>
            <a:ext cx="3619440" cy="2208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291240" y="42307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966680" y="30877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 rot="20101800">
            <a:off x="1068480" y="19807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 rot="1882200">
            <a:off x="1524240" y="48794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6081840" y="118260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mechan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395680" y="5373720"/>
            <a:ext cx="275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lectromagne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643200" y="25542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031000" y="281952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 flipV="1">
            <a:off x="1600200" y="22093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8288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1752480" y="41148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5791320" y="20574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5257800" y="6248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1"/>
          <p:cNvSpPr/>
          <p:nvPr/>
        </p:nvSpPr>
        <p:spPr>
          <a:xfrm>
            <a:off x="4952880" y="3276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2" descr=""/>
          <p:cNvPicPr/>
          <p:nvPr/>
        </p:nvPicPr>
        <p:blipFill>
          <a:blip r:embed="rId7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3" descr=""/>
          <p:cNvPicPr/>
          <p:nvPr/>
        </p:nvPicPr>
        <p:blipFill>
          <a:blip r:embed="rId8"/>
          <a:stretch/>
        </p:blipFill>
        <p:spPr>
          <a:xfrm>
            <a:off x="-60948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cars007.wav" descr=""/>
          <p:cNvPicPr/>
          <p:nvPr/>
        </p:nvPicPr>
        <p:blipFill>
          <a:blip r:embed="rId9"/>
          <a:stretch/>
        </p:blipFill>
        <p:spPr>
          <a:xfrm>
            <a:off x="-53352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2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54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5256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8" dur="894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due to a object’s motion (kinetic) or position (potential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The bowling ball has mechanical energy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When the ball strikes the pins, mechanical energy is transferred to the pins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Mechenergy1"/>
          <p:cNvPicPr/>
          <p:nvPr/>
        </p:nvPicPr>
        <p:blipFill>
          <a:blip r:embed="rId1"/>
          <a:stretch/>
        </p:blipFill>
        <p:spPr>
          <a:xfrm>
            <a:off x="5105520" y="1371600"/>
            <a:ext cx="3867120" cy="4952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9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xamples of Mechanical Energy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1" name="Picture 12" descr="Mechenergy3"/>
          <p:cNvPicPr/>
          <p:nvPr/>
        </p:nvPicPr>
        <p:blipFill>
          <a:blip r:embed="rId1"/>
          <a:stretch/>
        </p:blipFill>
        <p:spPr>
          <a:xfrm>
            <a:off x="152280" y="1219320"/>
            <a:ext cx="4114800" cy="2666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2" name="Picture 13" descr="Mechenergy4"/>
          <p:cNvPicPr/>
          <p:nvPr/>
        </p:nvPicPr>
        <p:blipFill>
          <a:blip r:embed="rId2"/>
          <a:stretch/>
        </p:blipFill>
        <p:spPr>
          <a:xfrm>
            <a:off x="152280" y="3962520"/>
            <a:ext cx="4114800" cy="2719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3" name="Picture 14" descr="Mechenergy5"/>
          <p:cNvPicPr/>
          <p:nvPr/>
        </p:nvPicPr>
        <p:blipFill>
          <a:blip r:embed="rId3"/>
          <a:stretch/>
        </p:blipFill>
        <p:spPr>
          <a:xfrm>
            <a:off x="4343400" y="1219320"/>
            <a:ext cx="4646520" cy="5486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4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Electromagneti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62520" y="1904760"/>
            <a:ext cx="5029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Light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Includes energy from gamma rays, xrays, ultraviolet rays, visible light, infrared rays, microwave and radio ban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Emagenergy4"/>
          <p:cNvPicPr/>
          <p:nvPr/>
        </p:nvPicPr>
        <p:blipFill>
          <a:blip r:embed="rId1"/>
          <a:stretch/>
        </p:blipFill>
        <p:spPr>
          <a:xfrm>
            <a:off x="762120" y="1143000"/>
            <a:ext cx="2369880" cy="2895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8" name="Picture 7" descr="Emagenergy3"/>
          <p:cNvPicPr/>
          <p:nvPr/>
        </p:nvPicPr>
        <p:blipFill>
          <a:blip r:embed="rId2"/>
          <a:stretch/>
        </p:blipFill>
        <p:spPr>
          <a:xfrm>
            <a:off x="228600" y="4114800"/>
            <a:ext cx="3809880" cy="2590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9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Electr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caused by    the movement of electr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asily transported through power lines and converted into other forms of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Electric2"/>
          <p:cNvPicPr/>
          <p:nvPr/>
        </p:nvPicPr>
        <p:blipFill>
          <a:blip r:embed="rId1"/>
          <a:stretch/>
        </p:blipFill>
        <p:spPr>
          <a:xfrm>
            <a:off x="5029200" y="1752480"/>
            <a:ext cx="3962520" cy="434340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Chem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038480" y="1676520"/>
            <a:ext cx="5105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that is available for release from chemical reaction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The chemical bonds in a matchstick store energy that is transformed into thermal energy when the match is struck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hemical1"/>
          <p:cNvPicPr/>
          <p:nvPr/>
        </p:nvPicPr>
        <p:blipFill>
          <a:blip r:embed="rId1"/>
          <a:stretch/>
        </p:blipFill>
        <p:spPr>
          <a:xfrm>
            <a:off x="152280" y="2057400"/>
            <a:ext cx="4114800" cy="335772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Examples of Chemical Energy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9" name="Picture 7" descr="coal"/>
          <p:cNvPicPr/>
          <p:nvPr/>
        </p:nvPicPr>
        <p:blipFill>
          <a:blip r:embed="rId1"/>
          <a:stretch/>
        </p:blipFill>
        <p:spPr>
          <a:xfrm>
            <a:off x="304920" y="1295280"/>
            <a:ext cx="3581280" cy="2465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0" name="Picture 13" descr="Chemical4"/>
          <p:cNvPicPr/>
          <p:nvPr/>
        </p:nvPicPr>
        <p:blipFill>
          <a:blip r:embed="rId2"/>
          <a:stretch/>
        </p:blipFill>
        <p:spPr>
          <a:xfrm>
            <a:off x="4343400" y="1295280"/>
            <a:ext cx="4533840" cy="5410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1" name="Picture 15" descr="chemical3"/>
          <p:cNvPicPr/>
          <p:nvPr/>
        </p:nvPicPr>
        <p:blipFill>
          <a:blip r:embed="rId3"/>
          <a:stretch/>
        </p:blipFill>
        <p:spPr>
          <a:xfrm>
            <a:off x="1219320" y="3886200"/>
            <a:ext cx="1517400" cy="2781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2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Therm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8120" y="1066680"/>
            <a:ext cx="5943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Heat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The heat energy of an object determines how active its atoms are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A hot object is one whose atoms and molecules are excited and show rapid mov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A cooler object's molecules and atoms will show less movement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hermal3"/>
          <p:cNvPicPr/>
          <p:nvPr/>
        </p:nvPicPr>
        <p:blipFill>
          <a:blip r:embed="rId1"/>
          <a:stretch/>
        </p:blipFill>
        <p:spPr>
          <a:xfrm>
            <a:off x="0" y="990720"/>
            <a:ext cx="3048120" cy="2570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Thermal4"/>
          <p:cNvPicPr/>
          <p:nvPr/>
        </p:nvPicPr>
        <p:blipFill>
          <a:blip r:embed="rId2"/>
          <a:stretch/>
        </p:blipFill>
        <p:spPr>
          <a:xfrm>
            <a:off x="0" y="3657600"/>
            <a:ext cx="2971800" cy="275580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cooks food in a microwave ove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the spinning plate inside of a microwave ove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Emagenergy2"/>
          <p:cNvPicPr/>
          <p:nvPr/>
        </p:nvPicPr>
        <p:blipFill>
          <a:blip r:embed="rId1"/>
          <a:stretch/>
        </p:blipFill>
        <p:spPr>
          <a:xfrm>
            <a:off x="5410080" y="914400"/>
            <a:ext cx="3505320" cy="231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magenergy5"/>
          <p:cNvPicPr/>
          <p:nvPr/>
        </p:nvPicPr>
        <p:blipFill>
          <a:blip r:embed="rId2"/>
          <a:stretch/>
        </p:blipFill>
        <p:spPr>
          <a:xfrm>
            <a:off x="5638680" y="3614760"/>
            <a:ext cx="2971800" cy="281160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h_n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22:39:07Z</dcterms:created>
  <dc:creator>TINA SHUTTY</dc:creator>
  <dc:description/>
  <dc:language>en-US</dc:language>
  <cp:lastModifiedBy>Asus</cp:lastModifiedBy>
  <dcterms:modified xsi:type="dcterms:W3CDTF">2018-03-09T16:19:55Z</dcterms:modified>
  <cp:revision>18</cp:revision>
  <dc:subject/>
  <dc:title>TYPES OF ENER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